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0505-AF6B-4CA3-95EC-EC03DB825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FBEB-B190-4981-8C3B-F127F98E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2D8-4CD7-4AB5-8742-D3A22A0F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8CD-2CF6-462F-B94D-F4306E58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384-8A8F-4AF8-9C82-AE419C38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8037-967C-4274-924F-F7D77830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7180-7920-46C1-9455-EDF34018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EC9A-444D-4183-A58D-7FD25FC5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1E6-2B10-4B61-A54F-CAA2964FC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F0AF-91A5-4463-A359-7F96DF78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5B7A-C4C1-4944-B67E-ED1F2AC2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A758-AC3B-4190-A4E7-6F1770DC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9CEF-F91D-4F63-A465-93251472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D25-563E-4DF6-AF82-78AF4C46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E2D-5D79-4578-BDD2-3293A5E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2D1-D646-400C-BC2B-91DB092D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797-357E-4D19-B45B-8233CE6A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165-2E55-4107-A0C6-3770B1AB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282-15F4-4B7E-B8BB-58014BDB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129-4D62-4A45-8CF9-1DC1574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389-89DC-4438-898F-F62406BA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9A9-2096-4755-9509-4CB130F3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120-84FC-4561-B79A-154A74D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A8C-059A-49E2-BE9D-DBC254E5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A2B-27A5-4475-AFFA-2BD7F5ED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7199-F7B3-40E7-AE95-40529DE5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faculty.washington.edu/moral/images/Giberli.jpg&amp;imgrefurl=http://faculty.washington.edu/moral/book.html&amp;h=534&amp;w=793&amp;prev=/images%3Fq%3Dprimary%2Bsuccession%26svnum%3D10%26hl%3Den%26lr%3D%26ie%3DUTF-8%26oe%3DUTF-8%26sa%3D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life.uiuc.edu/bio100/lectures/s97lects/05Succession/fire.GIF&amp;imgrefurl=http://www.life.uiuc.edu/bio100/lectures/sp98lects/05s98-succession.html&amp;h=408&amp;w=284&amp;prev=/images%3Fq%3Dsecondary%2Bsuccession%26svnum%3D10%26hl%3Den%26lr%3D%26ie%3DUTF-8%26oe%3DUTF-8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www.nybg.org/bsci/french_guiana/secsucc1.jpg&amp;imgrefurl=http://www.nybg.org/bsci/french_guiana/bat_disp.html&amp;h=201&amp;w=280&amp;prev=/images%3Fq%3Dsecondary%2Bsuccession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logical Rest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logic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covery (to state prior to human disturbance) is possible if damage is not to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understanding of natural succession to facilitate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on lands tha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organic matter due to leaching, over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ubject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ultimate f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max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last forever with no disturb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loss of nutrients in soil, slow biological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be a balance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ition of 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cosystem as living things grow and die and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The climax state appears not to exist indefini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ioration appear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46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inds of succ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ary succ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tablishment of an ecosystem where there was none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Giberl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78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5257800" y="3200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eating gla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mage21"/>
          <p:cNvPicPr/>
          <p:nvPr/>
        </p:nvPicPr>
        <p:blipFill>
          <a:blip r:embed="rId3"/>
          <a:stretch/>
        </p:blipFill>
        <p:spPr>
          <a:xfrm>
            <a:off x="0" y="2743200"/>
            <a:ext cx="441972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1.gstatic.com/images?q=tbn:ANd9GcQgnI0R1EQVvqqV6H8Y3B2cqbD8SRMefYf4R6LVEosA3vzbMdc&amp;t=1&amp;usg=__hKUJ71SpjAMBsanL-3rjTo_9_Ms="/>
          <p:cNvPicPr/>
          <p:nvPr/>
        </p:nvPicPr>
        <p:blipFill>
          <a:blip r:embed="rId4"/>
          <a:stretch/>
        </p:blipFill>
        <p:spPr>
          <a:xfrm>
            <a:off x="4800600" y="3809880"/>
            <a:ext cx="3924360" cy="233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3240" y="574344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dune suc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4320" y="6048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establishment of an ecosystem following disturb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209680"/>
            <a:ext cx="365760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ecsucc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838080" y="6095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abandoned clearing or after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terns of Species Change During Suc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acil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fe History 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ronic Patch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92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ma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ectotree"/>
          <p:cNvPicPr/>
          <p:nvPr/>
        </p:nvPicPr>
        <p:blipFill>
          <a:blip r:embed="rId1"/>
          <a:stretch/>
        </p:blipFill>
        <p:spPr>
          <a:xfrm>
            <a:off x="4606920" y="1600200"/>
            <a:ext cx="3916440" cy="4084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4648320" y="5791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matter is  soil’s best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006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s store more chemical elements than living things, but cycle much mor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ure ecosystems more elements are stored in the trees/flora and soils may be very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1"/>
          <p:cNvSpPr/>
          <p:nvPr/>
        </p:nvSpPr>
        <p:spPr>
          <a:xfrm>
            <a:off x="914400" y="3049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highph2"/>
          <p:cNvPicPr/>
          <p:nvPr/>
        </p:nvPicPr>
        <p:blipFill>
          <a:blip r:embed="rId1"/>
          <a:stretch/>
        </p:blipFill>
        <p:spPr>
          <a:xfrm>
            <a:off x="228600" y="166680"/>
            <a:ext cx="441972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Quartz Sands"/>
          <p:cNvPicPr/>
          <p:nvPr/>
        </p:nvPicPr>
        <p:blipFill>
          <a:blip r:embed="rId2"/>
          <a:stretch/>
        </p:blipFill>
        <p:spPr>
          <a:xfrm>
            <a:off x="457200" y="3505320"/>
            <a:ext cx="4095720" cy="2590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609480" y="60786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is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less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0" y="2438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particles are very small and hold more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rawing of relative particle size - 8.3 K"/>
          <p:cNvPicPr/>
          <p:nvPr/>
        </p:nvPicPr>
        <p:blipFill>
          <a:blip r:embed="rId3"/>
          <a:stretch/>
        </p:blipFill>
        <p:spPr>
          <a:xfrm>
            <a:off x="4952880" y="1447920"/>
            <a:ext cx="3733920" cy="4735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502920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, such as fire, return elements to soil (highly water soluble) for rapid re-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ooted trees, from st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t2.gstatic.com/images?q=tbn:ANd9GcTsSDILxWtXqVKtA0SmvwDTWx2FIaOY3VhoVhlodwjzwVezrEE&amp;t=1&amp;usg=__8PGOcdI0QzeiNN_4HQD6epmWmMU="/>
          <p:cNvPicPr/>
          <p:nvPr/>
        </p:nvPicPr>
        <p:blipFill>
          <a:blip r:embed="rId1"/>
          <a:stretch/>
        </p:blipFill>
        <p:spPr>
          <a:xfrm>
            <a:off x="4648320" y="350532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messiah.edu/Oakes/fungi_on_wood/club%20and%20coral/images/Tubifera%20ferrLogGE.jpg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10:22Z</dcterms:created>
  <dc:creator>tosborne</dc:creator>
  <dc:description/>
  <dc:language>en-US</dc:language>
  <cp:lastModifiedBy>tosborne</cp:lastModifiedBy>
  <dcterms:modified xsi:type="dcterms:W3CDTF">2011-10-27T19:53:04Z</dcterms:modified>
  <cp:revision>28</cp:revision>
  <dc:subject/>
  <dc:title>Chapter 9 Succession and Restoration</dc:title>
</cp:coreProperties>
</file>